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533-4737-4390-ABAD-6FCB61DD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0C9-9C1E-484A-942E-D03CB6C3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A77-7227-4089-9971-30DD6D14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CA0-C7BE-4F09-B298-2F8CE625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58D4-F0D7-45F1-9263-DE57866C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8E18-A1A0-4D32-8933-84F64695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02F1-9057-46DC-A3C6-35334351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0215-11B5-44FD-B8C7-94A10464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9EF5-1671-451E-B495-09CB0148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6D74-EA80-46E6-9653-10B33EEE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823C-CA9E-4493-A780-B54DBC71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8B3-3A38-4C27-8392-CD9B67DE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A798-2251-4467-B118-66A777CF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D83F-8BF0-4F99-A6C6-DE38F41F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6270-C8C7-4AF6-BDA1-93C0A3A8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2125-B30A-43A5-9EB9-0E530591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3837-82FD-4C74-A10D-BB78D23D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C2C-20D1-4596-A862-25CF07EE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B61-71C1-491D-84B7-EC696394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D9E-137F-46BB-BCCF-4BA0D9A1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C00-43EE-49AD-81BE-B62F779C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D41-8621-4290-964D-083F4DF8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733-D781-4313-9C3C-EC3ED4F4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3E0-4C60-450B-A053-ECB30B2F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575B-700B-443F-98B5-2AD3529060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D5F9-CEE9-4467-BE5C-00B92C2AD5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9ffcc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cc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42920" y="1844640"/>
            <a:ext cx="468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тересные факты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68360" y="3645000"/>
            <a:ext cx="583416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 комнатных растениях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96200" y="218160"/>
            <a:ext cx="5501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и государственный педагогический инстит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акультет педагогики и методики нач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федра педагогики и методики дошко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0200" y="4940280"/>
            <a:ext cx="29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рманова Евгения Никола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удентка 636 груп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623736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ыктывкар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54936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х только прозвищ ей не придумали! И «обезьянье дерево», «дерево жизни», «семейное счастье», и даже «денежное дерево»… А имя у неё что ни на есть невзрачное –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толстя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206064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читается, что чем больше на ветках толстянки блестящих зеленых листьев – тем больше будет денег в твоем кошель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2432160" cy="2592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34927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987640" y="141300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ое её имя – монстера делициоза, что означает «удивительная, деликатесная»… Всё дело в плодах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4886" t="0" r="4124" b="0"/>
          <a:stretch/>
        </p:blipFill>
        <p:spPr>
          <a:xfrm>
            <a:off x="395280" y="333360"/>
            <a:ext cx="2125800" cy="381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73640" y="2637000"/>
            <a:ext cx="2698920" cy="3598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32000" y="4175280"/>
            <a:ext cx="4752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ветущая монстера – настоящее событие!!! Крупное соцветие лианы отдаленно напоминает по форме початок кукурузы, а образовавшиеся плоды обладают… ананасовым ароматом и вкусом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1280" y="1268280"/>
            <a:ext cx="374328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веток с журавлиным носом – пеларгония, так как внутренняя часть цветка напоминает журавлиный клю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ларгония – прекрасный антисептик! Поможет вылечить отит, успокоит зубную б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доме, где растет пеларгония, даже в жаркое время не будет му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2498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16000" y="549360"/>
            <a:ext cx="69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Ботаникам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известно более 170 видов пеларг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2808360" cy="2022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378936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нальная пеларго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227640" y="1700280"/>
            <a:ext cx="2521080" cy="2693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443640" y="45086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арская пеларго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2957760" cy="2306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348000" y="5516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рчавая пеларго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8941" r="0" b="0"/>
          <a:stretch/>
        </p:blipFill>
        <p:spPr>
          <a:xfrm>
            <a:off x="395280" y="1125360"/>
            <a:ext cx="3776760" cy="2578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3789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мпельная пеларго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80000" y="620640"/>
            <a:ext cx="3349800" cy="2513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356000" y="3213000"/>
            <a:ext cx="253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16000" y="4762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омнатные растения можно разделить на 3 группы по их значению для челове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413000"/>
            <a:ext cx="52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растения, летучие выделения которых обладают выраженной антибактериальной, антивирусной, противогриппковой активностью в отношении воздушной микрофл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796000" y="1700280"/>
            <a:ext cx="2690640" cy="3672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2128680" cy="3168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227640" y="5589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ющ обыкно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443700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укуба япон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42920" y="47628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растения, летучия выделения которых улучшают сердечную деятельность, повышают иммунитет, обладают успокаивающими, противовоспалительными и другими лечебными дейст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56360" y="2205000"/>
            <a:ext cx="2651040" cy="3389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732720" y="595008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2594160" cy="3459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9640" y="5877000"/>
            <a:ext cx="223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вр благор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276720" y="2205000"/>
            <a:ext cx="2592360" cy="345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08360" y="6021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м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26920" y="62064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Растения – фитофильтры, поглощающие из воздуха вредные г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203280" cy="2808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42920" y="508464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лорофитум хохла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2676600" cy="4392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67280" y="587700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кус Бендж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08:14:46Z</dcterms:created>
  <dc:creator>студент</dc:creator>
  <dc:description/>
  <dc:language>en-US</dc:language>
  <cp:lastModifiedBy>студент</cp:lastModifiedBy>
  <dcterms:modified xsi:type="dcterms:W3CDTF">2010-05-22T09:29:15Z</dcterms:modified>
  <cp:revision>6</cp:revision>
  <dc:subject/>
  <dc:title>Слайд 1</dc:title>
</cp:coreProperties>
</file>